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35C-6F98-422A-BB48-CF441F70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235A-05BF-47B0-A559-2F259503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2FD-2498-4A65-A9F6-08526A79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4503-6005-4790-A90B-4AA804E3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92C-19EE-4DC0-8C23-0941884C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FFFE-5B40-4789-AEDF-16E063BB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EF99-1B53-4CB8-8C64-6903F763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ED0-86AF-4BD5-96E5-25C41A91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BE8-3BC7-4BF2-846D-FF615995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BC3-8833-473A-B104-7716E745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F0C-D3E4-47C3-BA17-8DF348D2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748-74BC-4FC4-97E3-119231F5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5E07-B529-4F27-B1F9-E218A18A0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SH F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ctional literature of extreme bre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term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dden f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f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-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 sh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card f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s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hort short 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FlashFictionCritique" descr=""/>
          <p:cNvPicPr/>
          <p:nvPr/>
        </p:nvPicPr>
        <p:blipFill>
          <a:blip r:embed="rId1"/>
          <a:stretch/>
        </p:blipFill>
        <p:spPr>
          <a:xfrm>
            <a:off x="3522600" y="2666880"/>
            <a:ext cx="56214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ur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—author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ever Drank the Kool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ur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American novelist, writer of Flash Fiction, music journalist, culture critic and television personality based in NYC. He is the host of Fuse TV’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phop Sh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The Rec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He is a contributor to MSNBC. He also serves on the Rock N Roll Hall of Fame Nominating Committe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oure%202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RONT PAGE NEWS!!!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t with a partner and retell 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Trainspotting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as a front page newspaper story. How do news writers report stories? Use the examples given &amp; the workshe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NYTimes.com_NYTimesFrontPage" descr=""/>
          <p:cNvPicPr/>
          <p:nvPr/>
        </p:nvPicPr>
        <p:blipFill>
          <a:blip r:embed="rId1"/>
          <a:stretch/>
        </p:blipFill>
        <p:spPr>
          <a:xfrm>
            <a:off x="1905120" y="0"/>
            <a:ext cx="541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7:46:21Z</dcterms:created>
  <dc:creator>ladychamperz</dc:creator>
  <dc:description/>
  <dc:language>en-US</dc:language>
  <cp:lastModifiedBy>ladychamperz</cp:lastModifiedBy>
  <dcterms:modified xsi:type="dcterms:W3CDTF">2011-04-24T15:15:49Z</dcterms:modified>
  <cp:revision>10</cp:revision>
  <dc:subject/>
  <dc:title>FLASH FICTION</dc:title>
</cp:coreProperties>
</file>